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82B-7238-446E-B771-3060D31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4A2-04ED-4576-9AB9-B388409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710-4AB4-4CE9-9B81-26E76C3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8E7-6EB0-4404-8AAB-453FECFB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F9A-5C87-4619-9056-30EE1FF5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A91-5D6E-4C1B-ADBA-0F6847C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7D5-7261-4453-87EB-7796C918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627-01A0-4DDD-A4C0-1E05802D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749-5F63-422E-994A-D29A62DB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158-ECDD-4F5A-85C5-ABAA3EF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78A-B88E-4BEA-B5C0-9D9CB38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EC4-8FB5-4C30-BB9F-F61BACC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F7B-B186-416F-ACF0-69D4CE0BC0D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remember the beautiful scenery on the 2 hour drive up there. We were always travelling to go on holidays, and it was one of the shorter drives that we wen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eft Arrow 3"/>
          <p:cNvSpPr/>
          <p:nvPr/>
        </p:nvSpPr>
        <p:spPr>
          <a:xfrm>
            <a:off x="6072120" y="1285920"/>
            <a:ext cx="857160" cy="2142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Lynda\My Documents\My Pictures\stuff for ash\Anglesea thingy\sign.jpg"/>
          <p:cNvPicPr/>
          <p:nvPr/>
        </p:nvPicPr>
        <p:blipFill>
          <a:blip r:embed="rId1"/>
          <a:stretch/>
        </p:blipFill>
        <p:spPr>
          <a:xfrm>
            <a:off x="7391520" y="152280"/>
            <a:ext cx="1612800" cy="13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Lynda\My Documents\My Pictures\stuff for ash\Anglesea thingy\anglsea caravan park.jpg"/>
          <p:cNvPicPr/>
          <p:nvPr/>
        </p:nvPicPr>
        <p:blipFill>
          <a:blip r:embed="rId2"/>
          <a:stretch/>
        </p:blipFill>
        <p:spPr>
          <a:xfrm>
            <a:off x="0" y="0"/>
            <a:ext cx="7715160" cy="4329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71680" y="514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e started coming when grandad suggested we came one time - He’d always been going here as a kid. We always tried to get the same site, because we loved the position of it. We always went with my grandma and grandad, and sometimes my parents let me bring a friend.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620120" y="24289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Not us in the pho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Lynda\My Documents\My Pictures\stuff for ash\Anglesea thingy\beach.jpg"/>
          <p:cNvPicPr/>
          <p:nvPr/>
        </p:nvPicPr>
        <p:blipFill>
          <a:blip r:embed="rId1"/>
          <a:stretch/>
        </p:blipFill>
        <p:spPr>
          <a:xfrm>
            <a:off x="0" y="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Lynda\My Documents\My Pictures\stuff for ash\Anglesea thingy\surf beach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57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533412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remember the first time grandad took me body-boarding. There were waves as big as me, and he launched me on a massive dumping wave, and as he launched me, a rock bounced off his head onto my head. But even though that happened I remember the rush of adrenaline and I knew that I had to keep coming here and going body-boar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Documents and Settings\Lynda\My Documents\My Pictures\stuff for ash\Anglesea thingy\bodyboarding.jpg"/>
          <p:cNvPicPr/>
          <p:nvPr/>
        </p:nvPicPr>
        <p:blipFill>
          <a:blip r:embed="rId3"/>
          <a:stretch/>
        </p:blipFill>
        <p:spPr>
          <a:xfrm>
            <a:off x="7184880" y="3048120"/>
            <a:ext cx="19591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714240" y="7128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80"/>
                </a:solidFill>
                <a:latin typeface="Times New Roman"/>
              </a:rPr>
              <a:t>ENGLAND BEACH!! (compar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Lynda\My Documents\My Pictures\stuff for ash\Anglesea thingy\canoeing.jpg"/>
          <p:cNvPicPr/>
          <p:nvPr/>
        </p:nvPicPr>
        <p:blipFill>
          <a:blip r:embed="rId1"/>
          <a:stretch/>
        </p:blipFill>
        <p:spPr>
          <a:xfrm>
            <a:off x="0" y="0"/>
            <a:ext cx="5059440" cy="632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Lynda\My Documents\My Pictures\stuff for ash\Anglesea thingy\miniGolf.jpg"/>
          <p:cNvPicPr/>
          <p:nvPr/>
        </p:nvPicPr>
        <p:blipFill>
          <a:blip r:embed="rId2"/>
          <a:stretch/>
        </p:blipFill>
        <p:spPr>
          <a:xfrm>
            <a:off x="4807080" y="0"/>
            <a:ext cx="4336920" cy="3298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105520" y="34290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nce my uncle and aunty and cousins came up as well. And grandad decided to take all the kids canoeing, and I remember splashing grandad with the paddle. And then after that we went Mini Golfing, and I was the kid with the best sc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Lynda\My Documents\My Pictures\stuff for ash\Anglesea thingy\mountain bike.jpg"/>
          <p:cNvPicPr/>
          <p:nvPr/>
        </p:nvPicPr>
        <p:blipFill>
          <a:blip r:embed="rId1"/>
          <a:srcRect l="0" t="15970" r="0" b="0"/>
          <a:stretch/>
        </p:blipFill>
        <p:spPr>
          <a:xfrm>
            <a:off x="0" y="0"/>
            <a:ext cx="3809880" cy="40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Lynda\My Documents\My Pictures\stuff for ash\Anglesea thingy\town centre.jpg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52280" y="426708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went off and rode my bike around the mountain bike track going over the jumps and everything… and when I got back I was voted/forced to ride down to the town centre to buy “the best pizza rolls ever invented” for lunch, well that’s what I called them any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Lynda\My Documents\My Pictures\stuff for ash\Anglesea thingy\RocksPtAddis.jpg"/>
          <p:cNvPicPr/>
          <p:nvPr/>
        </p:nvPicPr>
        <p:blipFill>
          <a:blip r:embed="rId1"/>
          <a:stretch/>
        </p:blipFill>
        <p:spPr>
          <a:xfrm>
            <a:off x="0" y="0"/>
            <a:ext cx="4937040" cy="351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Lynda\My Documents\My Pictures\stuff for ash\Anglesea thingy\great ocean road arch.jpg"/>
          <p:cNvPicPr/>
          <p:nvPr/>
        </p:nvPicPr>
        <p:blipFill>
          <a:blip r:embed="rId2"/>
          <a:srcRect l="0" t="0" r="503" b="15997"/>
          <a:stretch/>
        </p:blipFill>
        <p:spPr>
          <a:xfrm>
            <a:off x="4087800" y="0"/>
            <a:ext cx="505620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838080" y="54100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nglesea always was and still is my favourite holiday. And if I have kids I’m going to take them here, and if they enjoy it I’ll keep taking them. I spent a lot of time at Anglesea and I’m thankful to my parents for taking me, and I want my kids to have the same opportun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3657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e always walked to Point Addis… along the beach. Always going past the old rusting car from around the 1950’s… well that’s what I thought anyway. And we’d meet up with the people who didn’t walk at the end so we didn’t have to walk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5:42:46Z</dcterms:created>
  <dc:creator>Lynda Vanclay</dc:creator>
  <dc:description/>
  <dc:language>en-US</dc:language>
  <cp:lastModifiedBy>uhsstudent</cp:lastModifiedBy>
  <dcterms:modified xsi:type="dcterms:W3CDTF">2008-02-12T05:22:48Z</dcterms:modified>
  <cp:revision>8</cp:revision>
  <dc:subject/>
  <dc:title>No Slide Title</dc:title>
</cp:coreProperties>
</file>